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6402-5415-4D76-9272-ABE383FD3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7AA7-84FD-4985-B354-8F8E43F3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B7CD-18CA-4B4C-8720-430D8DD76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A659-5E0A-40F8-B542-6D233AB37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101F-2988-4AEC-90B9-D319BC650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F236A-3307-4864-9086-3F8530A0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9F67D-BC33-4B1A-B2AF-CD723117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6D7C-D1CC-447C-AA17-A3DC067A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2D17-F9EF-4515-9801-94BF7846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E364-1925-4B46-B22E-2719088E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D8AE-E43C-4A25-B433-087A9D0A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D90D-DEA6-478E-85E9-554ABECB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20085-586B-46D2-AB02-1846C8B5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B7E0D-DD98-4B99-9B64-065E18C8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CF34B-7E52-4A73-93D3-E40854CF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0717-344B-4669-98FE-0AB76509C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D109-EDBD-4B88-8CF6-4EE07BB9C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89A69-6D49-46E5-A64B-43A272D1F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397A2-FFD1-4EE5-9E87-121CEF22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1E7AE-674C-4FD9-9FFF-A9802B0E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942D4-B48E-4C2B-8F61-DBB8BEF3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2B283-8731-41E8-9513-8CD3059F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EC22-D6B6-4378-89C1-28861E25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4D0D2-1A2E-40F0-9CE1-42646AA8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519D9-B9C5-40E0-B454-97257B3F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1BA8D-21C0-4433-926F-C538DC70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9636C-CBF8-4376-9EE1-B5D98A80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2945C-7395-4A7E-9406-3005B7A9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1507B-824E-4985-A7D6-C3A2DA4E7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698E2-E6FD-4B4A-8382-A1F895619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98671-290B-4C6F-8ADA-CF0091D41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B2174-6CFE-4E58-921C-79D72A1A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EDD9E-BEF8-434A-B794-25D846B9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C48C-512E-46EF-9B7C-8311B070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318F9-AFBA-48AD-B05C-E846FE2A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392D1-10B7-4D37-BB18-AF6A174B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DE163-773A-411A-9BFB-84E13B63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46947-7725-49F4-81EA-61798824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9B68B-036D-47AE-A4A6-B7A6B6AF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346DF-3BE4-4CCD-8428-DF2BD57C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87CC3-982C-4045-93EF-A93E81A0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9F067-2B2E-4A75-9B4B-C5750315C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D3232-45C5-47FA-950A-92B370E01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54619-DBA0-4980-B8DB-DBC14D677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2881-10B7-4CB7-B306-A09D42AC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E31C4-5388-4184-9ED8-16B2F2FC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78824-4534-4729-9A39-40226DC7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9F0CB-8397-4788-A49B-5AE743D0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9C170-0F70-4C1F-A987-6BD8A53E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697F5-7893-47C7-ACA8-A1CF5EF9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ECCD0-AC2C-4553-8CFD-836DA9CD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31786-E17E-41F0-ADBF-BCA9CFB8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25D41-49AC-40F3-83D9-2921297C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05CD4-F501-4353-B970-6F5CC9D5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4094C-71D5-4391-96D9-79B9EC984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35F8-E0CF-4712-8C94-84948DAB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ED71C-EE6A-464F-9BF1-9B50D3ED0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E3087-64CC-4A4B-8D97-EC5E723E3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046A8-9597-4BC6-8D0E-55D66780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1738F-4C59-45E8-BDF2-206AF26A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B72B9-2A3E-439D-B9B1-203E3B1D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BFA1D-522D-4CDD-A6A6-E10BE412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5F33D-D692-464B-9F65-B243F543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24A2A-0EB6-4AB1-B75F-7ACEBF7C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E2ABB-FE12-44FF-87C5-A8126299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D009B-2C3C-437D-B9DF-05841EA7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F4EA-C2B8-4B5E-AB2B-E3C233B5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A6F21-2800-4261-9B28-B5074B4C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4684F-7B96-4716-B598-79353C4A0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ACD3C-CB75-4955-A140-189F50AB1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B2847-8554-4592-8F4E-B2DA5BDF0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A232C-1BAF-40C3-B34E-4A1A983D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996FE-9146-40F4-83B3-57C0FB7B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94E77-6700-4C10-B550-49AA778B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3234A-7EDF-45D8-839C-3DBB5D35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8E7AD-CE8D-4797-B1A4-5815BF27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6874E-B667-4001-B7E7-8E44B670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663E-B349-469D-95F1-362A3D0B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55B50-78B8-4A9E-9CD1-B9A0CB3F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08179-1915-4642-9B34-074A1F9B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9C529-53A3-4C6F-834D-DFCA812E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546D9-4961-44B9-B4F8-23C3F0BD1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79434-07DD-40A3-8EA3-7D3A1A738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6688-3783-4A60-9ACF-FBBC50AD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EF73-25E9-4B9F-989B-085A9F6D47B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90E9-9D46-41C9-AAD2-6E99B3E1C54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3683-086D-416C-8C3C-3020DE4E3B6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3268-958C-4D48-B689-5A8C306296F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2C76-FF56-4049-923E-52233F34255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D974-8EFB-4B2F-BAE7-1AB77897B1A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386A-BE8F-4F15-8D36-D2F838846F4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Les activité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0e0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Les phrases… (do not copy)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Regardez les phrases suivantes. Peux-tu deviner une règle?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869760" indent="-4881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u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 violo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9760" indent="-4881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us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hockey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9760" indent="-4881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Vous aimez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jeux vidéo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9760" indent="-4881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bénévolat les samedi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9760" indent="-4881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l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jogging chaque jo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9760" indent="-4881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ll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  peintur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9760" indent="-4881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Qui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ski nautique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9760" indent="-4881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us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 trompette dans l’orchestr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9760" indent="-4881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Vous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basket-ball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9760" indent="-4881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ls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cart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TextBox 3"/>
          <p:cNvSpPr/>
          <p:nvPr/>
        </p:nvSpPr>
        <p:spPr>
          <a:xfrm>
            <a:off x="2819520" y="2174760"/>
            <a:ext cx="1447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oues du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TextBox 4"/>
          <p:cNvSpPr/>
          <p:nvPr/>
        </p:nvSpPr>
        <p:spPr>
          <a:xfrm>
            <a:off x="3200400" y="2581200"/>
            <a:ext cx="1523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ouons au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TextBox 5"/>
          <p:cNvSpPr/>
          <p:nvPr/>
        </p:nvSpPr>
        <p:spPr>
          <a:xfrm>
            <a:off x="3924360" y="2971800"/>
            <a:ext cx="1485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ouez aux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TextBox 6"/>
          <p:cNvSpPr/>
          <p:nvPr/>
        </p:nvSpPr>
        <p:spPr>
          <a:xfrm>
            <a:off x="2666880" y="335268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is du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TextBox 7"/>
          <p:cNvSpPr/>
          <p:nvPr/>
        </p:nvSpPr>
        <p:spPr>
          <a:xfrm>
            <a:off x="2590920" y="3751200"/>
            <a:ext cx="144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is du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TextBox 8"/>
          <p:cNvSpPr/>
          <p:nvPr/>
        </p:nvSpPr>
        <p:spPr>
          <a:xfrm>
            <a:off x="2895480" y="4156200"/>
            <a:ext cx="1447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is de l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TextBox 9"/>
          <p:cNvSpPr/>
          <p:nvPr/>
        </p:nvSpPr>
        <p:spPr>
          <a:xfrm>
            <a:off x="2971800" y="453708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is du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TextBox 10"/>
          <p:cNvSpPr/>
          <p:nvPr/>
        </p:nvSpPr>
        <p:spPr>
          <a:xfrm>
            <a:off x="3200400" y="491796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ouons de l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TextBox 11"/>
          <p:cNvSpPr/>
          <p:nvPr/>
        </p:nvSpPr>
        <p:spPr>
          <a:xfrm>
            <a:off x="3124080" y="5299200"/>
            <a:ext cx="1447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ouez au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TextBox 12"/>
          <p:cNvSpPr/>
          <p:nvPr/>
        </p:nvSpPr>
        <p:spPr>
          <a:xfrm>
            <a:off x="2743200" y="5715000"/>
            <a:ext cx="1676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ouent aux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Jouer à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n utililse “jouer à” quand on parle des sports ou des activités d’équip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x: jouer au tennis, jouer aux jeux vidéo, jouer au footbal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’oubliez pas les contractions de “à”!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e soccer: à + le = au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es cartes: à + les = aux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5276880" y="1523880"/>
          <a:ext cx="3657600" cy="25956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</a:tblGrid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JOU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jo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jo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l/Elle/On/Qu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jo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jou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jou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ls/E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jou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Jouer de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n utililse “jouer de” quand on parle des instrument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x: jouer du saxophone, jouer de la flûte, jouer de l’harmonic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’oubliez pas les contractions de “de”!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e trombone: de + le = du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a batterie: de + la =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e l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’harmonica = de + l’ =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e l’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5276880" y="1523880"/>
          <a:ext cx="3657600" cy="25956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</a:tblGrid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JOU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jo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jo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l/Elle/On/Qu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jo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jou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jou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ls/E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jou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Faire de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 utililse “faire de” quand on parle des sports ou des activités qu’on fait SEUL(E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x: faire du patinage, faire de la planche à roulettes, faire des acha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’oubliez pas les contractions de “de”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a peinture: de + la = de l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es achats: de + les = d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e golf: de + le = du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5276880" y="1523880"/>
          <a:ext cx="3657600" cy="25956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</a:tblGrid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l/Elle/On/Qu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is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ou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i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ls/E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21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68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4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49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24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2">
                                          <p:stCondLst>
                                            <p:cond delay="621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10" fill="hold">
                                          <p:stCondLst>
                                            <p:cond delay="244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" dur="62" fill="hold">
                                          <p:stCondLst>
                                            <p:cond delay="254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10" fill="hold">
                                          <p:stCondLst>
                                            <p:cond delay="492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" dur="62" fill="hold">
                                          <p:stCondLst>
                                            <p:cond delay="502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10" fill="hold">
                                          <p:stCondLst>
                                            <p:cond delay="616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" dur="62" fill="hold">
                                          <p:stCondLst>
                                            <p:cond delay="625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10" fill="hold">
                                          <p:stCondLst>
                                            <p:cond delay="678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" dur="62" fill="hold">
                                          <p:stCondLst>
                                            <p:cond delay="688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21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68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4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49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24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2">
                                          <p:stCondLst>
                                            <p:cond delay="621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10" fill="hold">
                                          <p:stCondLst>
                                            <p:cond delay="244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62" fill="hold">
                                          <p:stCondLst>
                                            <p:cond delay="254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10" fill="hold">
                                          <p:stCondLst>
                                            <p:cond delay="492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62" fill="hold">
                                          <p:stCondLst>
                                            <p:cond delay="502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10" fill="hold">
                                          <p:stCondLst>
                                            <p:cond delay="616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62" fill="hold">
                                          <p:stCondLst>
                                            <p:cond delay="625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10" fill="hold">
                                          <p:stCondLst>
                                            <p:cond delay="678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62" fill="hold">
                                          <p:stCondLst>
                                            <p:cond delay="688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21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68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4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49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24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2">
                                          <p:stCondLst>
                                            <p:cond delay="621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" dur="10" fill="hold">
                                          <p:stCondLst>
                                            <p:cond delay="244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" dur="62" fill="hold">
                                          <p:stCondLst>
                                            <p:cond delay="254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10" fill="hold">
                                          <p:stCondLst>
                                            <p:cond delay="492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" dur="62" fill="hold">
                                          <p:stCondLst>
                                            <p:cond delay="502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10" fill="hold">
                                          <p:stCondLst>
                                            <p:cond delay="616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" dur="62" fill="hold">
                                          <p:stCondLst>
                                            <p:cond delay="625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10" fill="hold">
                                          <p:stCondLst>
                                            <p:cond delay="678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7" dur="62" fill="hold">
                                          <p:stCondLst>
                                            <p:cond delay="688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21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68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4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49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24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2">
                                          <p:stCondLst>
                                            <p:cond delay="621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" dur="10" fill="hold">
                                          <p:stCondLst>
                                            <p:cond delay="244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9" dur="62" fill="hold">
                                          <p:stCondLst>
                                            <p:cond delay="254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10" fill="hold">
                                          <p:stCondLst>
                                            <p:cond delay="492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1" dur="62" fill="hold">
                                          <p:stCondLst>
                                            <p:cond delay="502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10" fill="hold">
                                          <p:stCondLst>
                                            <p:cond delay="616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3" dur="62" fill="hold">
                                          <p:stCondLst>
                                            <p:cond delay="625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10" fill="hold">
                                          <p:stCondLst>
                                            <p:cond delay="678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5" dur="62" fill="hold">
                                          <p:stCondLst>
                                            <p:cond delay="688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21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68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4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49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24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2">
                                          <p:stCondLst>
                                            <p:cond delay="621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6" dur="10" fill="hold">
                                          <p:stCondLst>
                                            <p:cond delay="244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" dur="62" fill="hold">
                                          <p:stCondLst>
                                            <p:cond delay="254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10" fill="hold">
                                          <p:stCondLst>
                                            <p:cond delay="492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" dur="62" fill="hold">
                                          <p:stCondLst>
                                            <p:cond delay="502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10" fill="hold">
                                          <p:stCondLst>
                                            <p:cond delay="616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" dur="62" fill="hold">
                                          <p:stCondLst>
                                            <p:cond delay="625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10" fill="hold">
                                          <p:stCondLst>
                                            <p:cond delay="678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" dur="62" fill="hold">
                                          <p:stCondLst>
                                            <p:cond delay="688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21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68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4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49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24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2">
                                          <p:stCondLst>
                                            <p:cond delay="621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4" dur="10" fill="hold">
                                          <p:stCondLst>
                                            <p:cond delay="244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5" dur="62" fill="hold">
                                          <p:stCondLst>
                                            <p:cond delay="254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10" fill="hold">
                                          <p:stCondLst>
                                            <p:cond delay="492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7" dur="62" fill="hold">
                                          <p:stCondLst>
                                            <p:cond delay="502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10" fill="hold">
                                          <p:stCondLst>
                                            <p:cond delay="616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9" dur="62" fill="hold">
                                          <p:stCondLst>
                                            <p:cond delay="625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10" fill="hold">
                                          <p:stCondLst>
                                            <p:cond delay="678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1" dur="62" fill="hold">
                                          <p:stCondLst>
                                            <p:cond delay="688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21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68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4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49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24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2">
                                          <p:stCondLst>
                                            <p:cond delay="621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" dur="10" fill="hold">
                                          <p:stCondLst>
                                            <p:cond delay="24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" dur="62" fill="hold">
                                          <p:stCondLst>
                                            <p:cond delay="25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10" fill="hold">
                                          <p:stCondLst>
                                            <p:cond delay="492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" dur="62" fill="hold">
                                          <p:stCondLst>
                                            <p:cond delay="502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10" fill="hold">
                                          <p:stCondLst>
                                            <p:cond delay="616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7" dur="62" fill="hold">
                                          <p:stCondLst>
                                            <p:cond delay="625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10" fill="hold">
                                          <p:stCondLst>
                                            <p:cond delay="678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" dur="62" fill="hold">
                                          <p:stCondLst>
                                            <p:cond delay="688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12:49:12Z</dcterms:created>
  <dc:creator>Biega, Sarah</dc:creator>
  <dc:description/>
  <dc:language>en-US</dc:language>
  <cp:lastModifiedBy>Biega, Sarah</cp:lastModifiedBy>
  <dcterms:modified xsi:type="dcterms:W3CDTF">2012-09-27T18:13:05Z</dcterms:modified>
  <cp:revision>6</cp:revision>
  <dc:subject/>
  <dc:title>Les activités</dc:title>
</cp:coreProperties>
</file>